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.wmf" ContentType="image/x-wmf"/>
  <Override PartName="/ppt/media/image9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2E9-D9AF-434B-8920-3CC2906F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86B-5467-4BB5-B562-D2E2BDD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DF0-17AB-4F14-8CF9-190B5BE3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C62-24A6-46ED-89E0-823075DA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ECB-DD88-4D80-99FB-689A873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928-400D-4BE8-8039-CAB9016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5EC-04B1-44AF-A53C-E76D42A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571-30E4-4A3F-A96C-32125F8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F4C-5136-4A26-BFC4-9D1B7099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ECD-0B35-44E2-9BC3-43EA98D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F8D-CB57-4219-8747-9A0B42C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DAA-F32A-47D5-8626-46D76212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CBE-FE34-4887-A43F-774A8812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rcRect l="0" t="0" r="46419" b="0"/>
          <a:stretch/>
        </p:blipFill>
        <p:spPr>
          <a:xfrm>
            <a:off x="1117440" y="990720"/>
            <a:ext cx="8026560" cy="3093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914400" y="3809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nan (Roger) Sipitak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ang Mai University, Thai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914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utational Thin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 Means for Human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371600" y="571500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OLPC Regional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ngsana New"/>
              </a:rPr>
              <a:t>July 28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>
            <a:lum bright="54000"/>
          </a:blip>
          <a:srcRect l="0" t="0" r="18141" b="0"/>
          <a:stretch/>
        </p:blipFill>
        <p:spPr>
          <a:xfrm>
            <a:off x="7754760" y="884160"/>
            <a:ext cx="1389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ording.wmv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446040"/>
            <a:ext cx="67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Children experiencing and think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balance control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862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IF-THE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64400" y="4952520"/>
            <a:ext cx="61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 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ngsan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1622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endulum simple ifthen.avi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89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s’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26668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was moving too slow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was too “boun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90720" y="2208600"/>
            <a:ext cx="7041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1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1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 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 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 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-1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-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-1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-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gt; -5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angle &lt; 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 [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 setpower -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ngsana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IF-THEN Rules with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1752480"/>
            <a:ext cx="62049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Introducing the idea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  <a:ea typeface="Angsana New"/>
              </a:rPr>
              <a:t>Anticip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erving Body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7772400" cy="264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6098040" y="2971800"/>
            <a:ext cx="100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808080"/>
                </a:solidFill>
                <a:latin typeface="Arial"/>
                <a:ea typeface="Angsana New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650480" y="160020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Does this ever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6629400" y="21337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serving Body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1369440" y="2209680"/>
            <a:ext cx="727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ngsana New"/>
              </a:rPr>
              <a:t>Observing live ac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ngsana New"/>
              </a:rPr>
              <a:t>Reviewing recorded video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ngsana New"/>
              </a:rPr>
              <a:t>Reviewing recorded sensor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ording.wmv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62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72200" cy="4119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460800" y="10666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Car Speed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738240" y="9907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Pendulum’s Angle (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398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6"/>
          <p:cNvGraphicFramePr/>
          <p:nvPr/>
        </p:nvGraphicFramePr>
        <p:xfrm>
          <a:off x="1371600" y="1752480"/>
          <a:ext cx="6172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52480"/>
                    <a:ext cx="6172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Line 9"/>
          <p:cNvSpPr/>
          <p:nvPr/>
        </p:nvSpPr>
        <p:spPr>
          <a:xfrm>
            <a:off x="1828800" y="1600200"/>
            <a:ext cx="228600" cy="9907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4419360" y="1447920"/>
            <a:ext cx="533160" cy="1828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xampl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tion i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6483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giving a solution is insu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7339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Need time and space to negotiate meaning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vlcsnap-1648402"/>
          <p:cNvPicPr/>
          <p:nvPr/>
        </p:nvPicPr>
        <p:blipFill>
          <a:blip r:embed="rId1"/>
          <a:stretch/>
        </p:blipFill>
        <p:spPr>
          <a:xfrm>
            <a:off x="1905120" y="1828800"/>
            <a:ext cx="5486400" cy="4091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ngsana New"/>
              </a:rPr>
              <a:t>Top Tip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gsana New"/>
              </a:rPr>
              <a:t>Descriptions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lance 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057400" y="1523880"/>
            <a:ext cx="50292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9983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955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20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440" y="451080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ngsana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" descr=""/>
          <p:cNvPicPr/>
          <p:nvPr/>
        </p:nvPicPr>
        <p:blipFill>
          <a:blip r:embed="rId2"/>
          <a:stretch/>
        </p:blipFill>
        <p:spPr>
          <a:xfrm>
            <a:off x="388800" y="457200"/>
            <a:ext cx="2538720" cy="2666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87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4"/>
          <a:stretch/>
        </p:blipFill>
        <p:spPr>
          <a:xfrm>
            <a:off x="3581280" y="457200"/>
            <a:ext cx="2400480" cy="2666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/>
          <p:cNvPicPr/>
          <p:nvPr/>
        </p:nvPicPr>
        <p:blipFill>
          <a:blip r:embed="rId5"/>
          <a:stretch/>
        </p:blipFill>
        <p:spPr>
          <a:xfrm>
            <a:off x="3200400" y="3276720"/>
            <a:ext cx="3048120" cy="263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"/>
          <p:cNvPicPr/>
          <p:nvPr/>
        </p:nvPicPr>
        <p:blipFill>
          <a:blip r:embed="rId6"/>
          <a:stretch/>
        </p:blipFill>
        <p:spPr>
          <a:xfrm>
            <a:off x="6477120" y="457200"/>
            <a:ext cx="235584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7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2880" y="58672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6960" y="58672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5440" y="58672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3049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049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orbit Reaction Control System (RCS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4876920" y="4495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space shuttle rcs thrusters"/>
          <p:cNvPicPr/>
          <p:nvPr/>
        </p:nvPicPr>
        <p:blipFill>
          <a:blip r:embed="rId3"/>
          <a:stretch/>
        </p:blipFill>
        <p:spPr>
          <a:xfrm>
            <a:off x="2057400" y="1752480"/>
            <a:ext cx="48006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Phase plane for shuttle rotational and attitude control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4452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-Plane Control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3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4876920" y="4495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666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Phase plane for shuttle rotational and attitude control"/>
          <p:cNvPicPr/>
          <p:nvPr/>
        </p:nvPicPr>
        <p:blipFill>
          <a:blip r:embed="rId1"/>
          <a:stretch/>
        </p:blipFill>
        <p:spPr>
          <a:xfrm>
            <a:off x="4114800" y="2403360"/>
            <a:ext cx="5029200" cy="318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924680" y="990720"/>
            <a:ext cx="7588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rcRect l="0" t="0" r="6640" b="0"/>
          <a:stretch/>
        </p:blipFill>
        <p:spPr>
          <a:xfrm>
            <a:off x="0" y="1066680"/>
            <a:ext cx="8839080" cy="10144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4876920" y="44956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666880" y="2590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067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099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560" y="586728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-cpe.org/olpc/chab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81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990720" y="-609480"/>
            <a:ext cx="17880120" cy="137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573 0.25602 L -0.58594 -0.75509 E">
                                      <p:cBhvr>
                                        <p:cTn id="78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91640" y="2895480"/>
            <a:ext cx="380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ngsana New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 I: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28800" y="1371600"/>
                <a:ext cx="5105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1295280" y="2895480"/>
            <a:ext cx="6172200" cy="3200400"/>
            <a:chOff x="1295280" y="2895480"/>
            <a:chExt cx="6172200" cy="3200400"/>
          </a:xfrm>
        </p:grpSpPr>
        <p:sp>
          <p:nvSpPr>
            <p:cNvPr id="58" name=""/>
            <p:cNvSpPr/>
            <p:nvPr/>
          </p:nvSpPr>
          <p:spPr>
            <a:xfrm>
              <a:off x="1295280" y="2895480"/>
              <a:ext cx="6172200" cy="3200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2767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5867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5320" y="3048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95880" y="567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3657600"/>
              <a:ext cx="3276720" cy="1346040"/>
            </a:xfrm>
            <a:custGeom>
              <a:avLst/>
              <a:gdLst/>
              <a:ahLst/>
              <a:rect l="l" t="t" r="r" b="b"/>
              <a:pathLst>
                <a:path w="2064" h="848">
                  <a:moveTo>
                    <a:pt x="0" y="480"/>
                  </a:moveTo>
                  <a:cubicBezTo>
                    <a:pt x="260" y="664"/>
                    <a:pt x="520" y="848"/>
                    <a:pt x="864" y="768"/>
                  </a:cubicBezTo>
                  <a:cubicBezTo>
                    <a:pt x="1208" y="688"/>
                    <a:pt x="1984" y="0"/>
                    <a:pt x="206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thod II: Comput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1981080"/>
            <a:ext cx="3124080" cy="3124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1981080"/>
            <a:ext cx="3124080" cy="31244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5160" y="2414520"/>
            <a:ext cx="511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 . Pi . (r1-r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157480" y="990720"/>
            <a:ext cx="5005080" cy="4681080"/>
            <a:chOff x="2157480" y="990720"/>
            <a:chExt cx="5005080" cy="4681080"/>
          </a:xfrm>
        </p:grpSpPr>
        <p:sp>
          <p:nvSpPr>
            <p:cNvPr id="78" name=""/>
            <p:cNvSpPr/>
            <p:nvPr/>
          </p:nvSpPr>
          <p:spPr>
            <a:xfrm>
              <a:off x="2796840" y="1592640"/>
              <a:ext cx="3731400" cy="35010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96840" y="1592640"/>
              <a:ext cx="3731400" cy="35010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4520" y="1234080"/>
              <a:ext cx="4496760" cy="42188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57480" y="99072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78640" y="512964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61440" y="513324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88720" y="996480"/>
              <a:ext cx="57384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alance Contr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4c4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3886200" y="3403440"/>
            <a:ext cx="48610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3:54:18Z</dcterms:created>
  <dc:creator>arnans</dc:creator>
  <dc:description/>
  <dc:language>en-US</dc:language>
  <cp:lastModifiedBy>olpc</cp:lastModifiedBy>
  <dcterms:modified xsi:type="dcterms:W3CDTF">2008-08-07T14:35:55Z</dcterms:modified>
  <cp:revision>11</cp:revision>
  <dc:subject/>
  <dc:title>Using Computational Thinking  as  Means for Human Comprehension</dc:title>
</cp:coreProperties>
</file>